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DF7-0EC1-4C12-A268-492C6191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D6D-8E0A-4BC2-BC8A-F2D760B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5C21-5C08-4BD3-B49B-2B4BFDC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72BDE-ECCA-4A1E-B5C5-DF40DAA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3A03A-D807-436C-BB12-AEEF696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FC7B0-9A78-4C3F-8FA2-FC069F6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7A715-6A7A-437E-8759-129F0CF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025C7-3B19-4723-9A66-598C10B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9B729-D1B3-4048-B23B-7FAD2AD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B9B9-DC73-4005-9DE9-DE16BE18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12C7D-D88A-4A37-B414-4AC7623F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DC81A-5E1A-46AD-B001-B6044AF6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5CD-D76A-4338-A301-19A944F4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F088A-1E59-413F-A975-9612867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ADE81-8DDA-4EEA-80A6-1185950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2C2E1-706E-4EDA-BD29-81DB947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D8C5E-3FDC-4581-A933-C3E148D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D7994-4854-49CF-B26E-68CC6F9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6EF73-60D5-41BB-9DB2-82953007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E084F-3B2E-4F1E-BAC3-E600867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61373-1D8C-4AB9-A96F-35BA438B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A139D-1928-45A8-8810-23D2D3B3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2CD0-B07E-4ED5-B93D-2382EE69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305-E0E2-47DD-A3A4-DD33936C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50699-1F9C-4C89-9791-60BD0524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0C04E-537F-4CAF-861A-E28F102E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4E5BD-4AB1-4FE4-AC5C-C2CDB3E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D80B-86B1-4D38-8B3A-D007B056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AA035-9751-447E-8BB9-586118E6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6112-05D8-47CC-930D-8D6B4CA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0A9A6-6129-4F3F-BD78-081BCC50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9E8D2-B462-4808-B3E6-02E7EC4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52BE8-58D2-4272-99E2-9489F73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4DB57-6800-44B0-9093-411B8AA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A82E-698B-484C-9394-CD1C16DE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5209-6305-4D56-BB10-95501702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74616-C281-4F85-B0E8-F6E03209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E294D-BB48-486C-BBCE-2AF888F8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3A39-1FB6-416A-9C81-3A468292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9E25C-9843-4210-A098-C8CDEEB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D6E71-B553-4F09-AFD8-539EBBC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94C4C-71BA-4BEB-AE86-04BE047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6527F-23DF-4D0A-998F-6BBAB756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2DC5D-9608-4C48-B869-BD25DAD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38031-94ED-4DE5-A70E-92B99A5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408C-4300-42C1-8CE9-EDE950E4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FB70-E2F6-40D2-AEB8-F747D2B3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B4EB7-D6F6-4022-AEF0-3323ACB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B3C7A-8728-4E27-9C2C-00CEE3A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450B1-65AE-4014-B768-BE241F2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4390F-F764-4A78-9C6D-AAB536B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3F9C-4899-41A6-B004-CAA6FBA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0E4-84BF-4C89-828E-B65511B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E04A-998E-4B98-BF36-1A10202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3307-573E-4428-94CC-D528C381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578-2729-4A54-AEAE-D271876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0ED-CDD8-46E0-B348-71907E7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2931-F906-4DD0-BD93-608BF12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0091-6D44-41E0-A45D-ED46B49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FC6D-F8C6-4F82-B220-78158E76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7A4B-9B98-4E20-B512-1C149257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D83-317D-41AE-9DA1-635F842C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60F7-CA39-4CF8-9243-D411087E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6F61-4D75-4C56-A343-EE53340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9ED2-37AA-42D4-8AEF-4A3E810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9641-773A-411C-ADD1-8B61107A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BCD4-903C-4C76-B7BF-BAB4811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E84-3E8E-43A4-B691-621B5DC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FE35-62AE-4CFC-8B68-F759D39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74DF-151D-4436-BFF9-5DC8E53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DBCF-C63B-453A-BD51-45DEF24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C529-3606-453A-A72A-D4E41A9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3173-CBE2-471B-A178-EA54964A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33AA-45D6-4CBC-879F-FE044183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37F6-6D2C-44F9-8A51-BC538394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7018-B943-4F09-ADDC-3D752A0C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E953-613D-4339-B0FB-BCE3720C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FC26-C271-41A0-9875-D1A657B7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C52-08F8-4260-8C88-E09F183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384F-D6B3-4861-885E-DF5B1B62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A42C-43BC-4F4A-A0FD-EA3AF33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001C-FF43-456D-BAA4-763A64D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C23C-33B2-469B-A050-88916E42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48695-3301-4899-BE4C-C6545A4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56C9-DAA7-4947-A736-4504B42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8F4C-7934-4CCB-848B-2DE613A2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5427-C426-47E2-A91A-EE3C4523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983B-D764-41C4-B903-7C1E13FF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7705-4876-4EA4-97E6-F60E3B10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252-7CEC-407D-BA07-CF6DBC54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365B-1506-4739-9FF4-8A1888E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B594-9954-4406-8E73-BB8EDBA3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AF41D-34D4-4A83-B067-46B4254B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3962-F8E7-4E2C-91F8-FE37C1E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A938-2C17-44DA-A482-3716E979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23BB-34F5-4FAF-9A54-DA14B54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C0CE-6E73-4563-9E03-77D7035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FC3D-67B1-451B-8A09-546D9F0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AA6D-6C9E-47F7-B341-34A4460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9D72-81BA-4EEE-9A87-3F9F7F5E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38C-DAFF-4BDB-BC93-664FF783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5C6F-FA2A-441E-80E1-E8883374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9F62-14A8-44C5-A5F3-D8257E6A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52D7-1D3A-45A6-9988-1BE24F16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FBD2-434E-4BF8-8BB8-DBD409EE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2CAE-A788-4933-B91B-A378C4B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00CE-3C0D-4EC8-95B4-AA628CB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1C1B-4E5C-4E3F-A7B4-EFBFE50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2B90-05B2-40FC-ADDD-3022F47B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5AA6-F4E1-497A-B8BE-F08AA69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B005-7366-4BD4-B2D8-53EFA39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182-97ED-451C-98DE-C8AB30B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34E7-42B9-48AE-A478-EE4E5DE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EB61-DF32-4DB5-9D67-2D8B2BEC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FB10-8484-4F5D-A879-2F585E55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E4EF-9E71-4800-93E2-FC406423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2DE1-53D1-4246-9EB8-D5EE451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57A0-98A3-4039-A9D0-0D1D147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5845-8D26-4510-A415-6AFD604A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EE443-B7B0-4279-9C55-CB460C4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5E5A-273E-4C55-BBC9-EE9DBDDA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77F1-E44B-4090-A2B8-132DEAF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AC2-5B1E-4AE3-A48C-BC1239E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851C-CFE5-456A-91B4-0A4D491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48FC-502F-4591-842E-AF3BEFE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95349-560D-4344-B015-568C43C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401A-C02F-4051-8FF3-F1B5A02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3E0A-9381-483F-8CCB-CC9BB01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F8F1-3343-4623-8DED-D780A57E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907F-3702-434A-A5C0-40A4941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820A-2982-4655-872F-372075D0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7349D-816F-478E-8610-A83DFBF1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4EE5-AE0D-4F12-900C-F74374CD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787-9E10-4979-A4E1-0CA4ABE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F33D-0AE4-457A-B9C2-BC31C497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19FE-A4C8-44A7-8709-ACA4496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F25A-A261-4730-99EF-E2F4630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D9B3-8D6B-4138-8810-DC1F604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716A-4CB4-4486-8FF0-0B7E230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8D85-0C11-4397-84AF-CCF15A34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EF914-26E7-4563-8351-6742CE92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A2E01-A6FF-426D-939C-6C4F514B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817C-C542-43FB-977B-E82E0D7A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41883-038B-4DC6-AC7D-D4853F37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FCE3-24DE-4FA2-AB01-722A6D6975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03F1-B1D0-47E4-A476-914CA4E26B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BF82-2AD5-48AE-B121-B8A7DD6BC1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35D-AC62-41B8-A199-FB7B304DC3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73D-37F1-4EA0-BC3E-3117A678D0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C705-B7EF-4E99-9B7F-8DD0A65BA4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A588-2570-4C2E-8187-9A2FBBCD10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BE9-FFD0-49C2-8D9D-BCB29C5BCE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507-2775-4D13-BFA9-6B2F2C63FB4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4188-084F-4A40-A118-71ED41654E3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A8F6-A471-4A03-9ABE-82EF0CACE1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C7B-DB36-4319-AF09-EA54460206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1 Pane, ráč nás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ráč nás vi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pleti žitia cies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úženému dospieť cie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, drahý Spasiteľ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320" y="324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nás veď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večnosti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ase ťažko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nám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, Pane, kráčať chce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doliami tejto z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ech vedie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 v srdci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chybnosti vzdia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ás priateľ náhle zra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ú márne ľudské rad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nám z milosti, trpezli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veď vždy ná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veď žitia úskali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láskou bdej nad n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z búrky i t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veď k víťazstvu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5-29T09:04:41Z</dcterms:modified>
  <cp:revision>21</cp:revision>
  <dc:subject/>
  <dc:title>Je veľký náš Pán, on slávy je Kráľ Nech do všetkých strán  spev vrúcnych znie chvál.</dc:title>
</cp:coreProperties>
</file>